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gif" ContentType="image/gif"/>
  <Override PartName="/ppt/media/image7.wmf" ContentType="image/x-wmf"/>
  <Override PartName="/ppt/media/image8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F61A-9CDB-443B-8990-2F226B810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F2E3-BCC8-41C0-AA90-C5C4C6B0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6227-962A-4EDB-BDDE-1F6E1A3D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2801-6446-4A7D-8844-323585DA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C5AE-8A69-4985-821A-D4DF1305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139A-C401-4A9B-98A9-00CF4A15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A48A-F23C-44FF-B81E-D815E274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76C-2A89-499D-A2A3-3E531AD6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4FFC-91A3-4393-A403-C478373BE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D3AB-6A08-41A7-8062-7FE0340F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B68F-3420-4B2C-8DF6-815FFDC7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B61-66AB-4D4B-9F2E-E44EB0EB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314-E5E9-442C-8064-7FC1C217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EFEB3-9A18-4FA0-871C-BB157EDC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D3FDF-5EB1-4E9B-A02C-9F7C8BA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CA6C9-EB94-4A4C-85D6-B3A28821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50BD6-3C47-4999-833B-BC9AE74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6391C-C2AF-4835-9A53-8AE6D420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42FAD-ED40-4DD6-BFBC-590726D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BF733-07B8-40A4-84CA-6F6EED1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D51BA-E7B7-42DA-98DE-0B35F065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8D7EB-4C5F-4CCE-8BA6-715A38AF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91829-F1A5-447B-B203-ADB479D3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20D-4B80-44B4-8507-52978EFE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713C7-20A4-4DC3-B0ED-6A85BF82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A45C0-B08A-4C35-962B-82992EB0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D9133-6FE4-415E-B52F-CF92630E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C9C3B-0962-4F56-B46B-A655709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F02E-D6F0-4C1F-B665-6BC5EEA2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C4099-F398-478A-AB87-286B043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A8321-BAB9-479A-9220-B94950A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63298-D7FD-48DF-9192-D768CA6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F0FD3-323D-4DFF-9957-D3B4D61F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63427-8EF5-4E2E-9AB3-3B892C3E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F36-572E-4CDA-BBA6-E21023BD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3A95D-E2F9-495C-B3F5-2CDD1714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3C714-7474-4E10-9A4B-08FF553D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2440-932E-4E48-9D47-DABACEC3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AC04F-1E1E-44F6-85ED-01B2225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2A52-7917-479D-B4E6-4378376D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FAB8-356F-43D8-9DF2-03B5600A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E6638-ED62-482E-88B6-76665B2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78AB-5919-4AD2-9952-18606F51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A20C4-4FA5-4774-B2D2-77C75E7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3826C-3F10-42B4-AD2C-B2485919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5DD7-BC52-4E0C-89FF-E36200DE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E9FF8-4B28-429E-BEE8-34689F05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8EC1E-3B73-4DDD-A7AC-26B404E9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03DEA-2D31-4993-B2F6-67C629B1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B25FA-6EEE-4A12-A240-AA8C2227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18DF3-2321-4F38-9A3F-1CB8429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FABB-D7A9-46E5-9ACC-4CDC9298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1C510-429D-405A-8AD1-58CF3EEF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793EF-3247-4AAF-95F1-B1936A5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6A77E-55BB-460B-B188-61D3343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2BA6A-D2B3-4EB1-AB79-06D7A28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3791-72DC-4168-8258-BFA39EE9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DE474-2D92-4EC4-BC43-C8FDFFF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320C6-7588-4916-9B9F-68E38E77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92BE3-95F1-44DA-B982-1DC0F1CF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1BCC5-08D1-4451-8946-DCAB6A95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9B164-FB2F-46B2-863C-867CD39D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3708E-A8D2-42AC-B837-6D860B50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4E6A2-8E9E-4010-9843-51E7AA5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2124A-7FFE-480D-B9D9-37EC3D65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6882C-6641-4604-982A-8B87D73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9F667-AB46-4770-9E8D-3AE02031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244-1235-45AC-B031-F4570352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73F6B-9C58-47A2-A0E5-23255AF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21797-A04F-4BD5-9560-C644C43A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52669-71CD-4CE2-88C1-659A218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B6039-7266-4681-8D0A-AA7A871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C3849-B574-42C4-A965-07853835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06708-BCA2-415E-8162-75859750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52C6B-DCD2-4FB0-8A96-20A68C11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04D8B-7269-4271-879C-C322F964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B569F-B6DD-4E00-BC94-9C641B8E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73F14-CA89-484A-81F0-36CAE76B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4B40-796A-40AA-971E-E0A0848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6A33B-4ECC-4740-8750-479C6F9A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9CDAB-132E-4540-9F3F-07F2412A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7B332-1696-43F1-BBF6-E0FBE684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06C98-03D3-4202-936C-43CA51A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82326-894E-471B-A792-7579A4B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D1DB9-27CA-4CFF-B69E-E5022BB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D56C3-3893-4E2A-81B3-945FD94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5AD1B-EEC4-4BB2-84DC-AEC64B1E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888B2-5A21-4CD4-BB6D-51E02ACC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48455-399A-42A8-AF29-E6DB87D5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6278-86E2-415B-8859-68F2690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3E7DC-FDBB-4977-83E2-BE8732F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4820F-CB1C-4D2D-BDEA-3AEEFB07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4C193-C68D-413C-AC1C-7A0062F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2F14B-8F31-44C2-AA7D-82B9B7E0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2E81E-959F-4CCF-80EF-A70D125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68AD0-2B28-4A7C-A59D-7592079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62ADD-CD2B-4918-8E35-D6D868B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10DBF-A936-4B94-B6EB-A32A489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354F3-3B2F-498C-AEA3-3F5E813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3FA0A-6A9C-4078-9658-71C58708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C0EE-8168-4555-BB84-5350C2B5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A8C90-667B-4BA3-9BD9-A9A28A16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77A0-E1E1-44DC-90E1-185F04E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FCF-696C-4156-B66F-9075E06B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ED39-0D7C-4120-876A-69DB82C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1B87-6548-4394-B5F4-C1A6439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DC3-D93F-4EE1-8404-1CD98E1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58F-DA4C-4C97-B91F-4F9727A0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1C2-F80D-4168-BB33-8F123845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6E49-EFD6-4E90-B07B-92CEAC53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334C-6906-45DC-B84E-C493263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6180-288E-4754-A945-84A021C4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DD6FA-DEF4-4A6D-8BD3-10D16BB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AE53-AB31-48AF-874E-ED46C2AD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B27-51DA-4315-A32C-BB154ED7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E3D1-850E-456F-9728-F215767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92D8-0C8E-4114-AE41-7C835F1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4699-0ED1-427C-AB1B-0C4F281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FAFD-AE5C-48A5-BBC5-DD374B0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9A5C-9F07-46BA-B5DA-F383D54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92C24-61D5-442B-855E-B3F9395E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F091-BAFB-4CCD-8B83-6CD13DA3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E2DCF-4499-4DBD-B0ED-EDFD0BE2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12B1-4E43-4BD2-BD55-55DB75D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283A-03EF-4D78-8065-5A043C35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D7D-A228-4087-807E-DCDC518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A0E2-7498-4037-8DC1-815900BF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DFC8-1D25-4850-BCF8-CA72DC1B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CA9D-A69D-4AC5-B873-2A314D8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2054-F1A6-4A6C-B22A-1DA6636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C0DD-3B2E-494A-83DF-F62480D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E6A1-77C3-40A1-BB1B-397765D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F042-8E16-4E24-BFD8-629361C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9F0B-AFF5-4DB6-AA21-CC6DB1DB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49B7-3648-4004-A384-88C94927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FEAD-871D-4866-914C-A857C7A9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756-55E4-45DE-8AF9-6A89DA8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705B-E888-462E-B613-EFD7FEBA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7C54A-EC11-4A30-B695-5E04FE4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93965-00EA-4B84-9F76-F31A3CE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A34C-9510-4215-A40F-D22FF8EE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9EBD2-528C-4A73-AA38-B490C27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582C-C969-45FA-9A23-F677E95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DD84-6674-4BD2-B714-5139923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71F3-0E0B-4CB8-AC29-989F95E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B1547-9CA7-4025-BB08-6A41A057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0741-80A8-413F-B0E5-E7F0F265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6C4-A198-4E24-A10E-750AB49B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3A5A-9E9D-4F4D-8EF1-85A0D654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6A4E-91A8-40AC-84D7-44B0EF81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20B3-6B0D-41D5-A743-6B82AC2D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4DB8C-0A3D-4D01-9CA7-9E7219F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A7D3-83A9-4D1E-88FC-EB36FC8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B19F-A0D7-47CF-9A82-E733AF5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60DB5-FFB7-4C10-8A71-8172467A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9E19-2FC5-4CF8-89C9-A1ED704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74AB-60AF-4B3D-9DD2-3C1810C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0B31A-710C-4DAD-BF87-4A5A228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2CA-1802-48F0-92B9-F5FC1F1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B4B4-34A8-4288-BE58-3B0146B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3BA0-3C67-4017-94C4-B6ADF69D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29E87-6CA4-46C4-A124-4667F84F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FA58-91AA-462C-9B9B-6CE1490F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7023-29D6-4A1E-BD56-3DA7F940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16EB3-F004-40E0-BA57-A5CC1DC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01F1F-29AD-4225-84B4-068C3A67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A7A4A-ACD1-438C-B8CF-FAD7AAEB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1C9E3-5880-42BF-AA71-41021CBE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2CF81-1570-495F-9F7F-C0F6A2F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925-7331-448D-9598-BFB68EEA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6656-1AAD-45F4-AE02-C90A92F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355D-DC93-4018-9272-728A28A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F1BD5-A3BE-491F-90E1-F3C2C083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E6C3-06A5-469A-B1CB-D116053A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2D55-25CF-4BBE-9D30-0EC541EC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B9166-C447-4AAE-A9B0-E7D09E58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34975-832B-4470-952B-259ECDEC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AB95D-CDAB-4AA3-9E7F-11BB4892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AA4AF-B1BB-4182-A9B7-A4E5DCA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D34A-C93F-406B-A796-26EA6F77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A53-16FB-43DC-985B-0333CB1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F1DAB-D198-4F20-9CC2-030677A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CA04-3DFE-40C6-B0A7-C07F1BD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0987-131F-430F-9147-6394E92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E342-DF6A-4D2F-9EF7-8AB4B06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DE977-A7AD-4B5F-A779-9227653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A881-E4E9-44D6-950B-444F6B48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5C99-24E9-4416-BB08-2183E763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C92EC-CF8A-4A0A-AC69-5CAAB1A3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2348-488A-4CE7-894C-F2D40B83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6015F-4446-4BFD-8429-7BF96172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B48C-2B89-48CE-B052-1CF2AB67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2AB7-77AE-45B9-9D0E-244FBE6AE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C13-EFF6-4027-BD86-43EE49CCC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71D-12FF-4BB0-842F-4A953DE0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2CD-4AC2-4681-B4E2-F044F7D4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46E9-D7CE-49A9-9A04-B613A256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8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9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1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3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4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2C82-D547-4E15-89A5-68A5B6877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7B6-62A5-4CBE-9C74-ECFFA860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856-D01C-4719-BF1E-E777B61C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39E4-CE93-41DE-A614-4C86D3169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DC5D-6351-4D48-BCF9-82ADB6626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7E0E-0300-4080-B8E6-416812F2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8FDF-0B14-4775-9A19-8F8FA0E6B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4617-B214-43EB-914C-80B29B27E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48D-56D1-4249-BAB4-3A5835BF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CB53-D451-47C4-99CB-4D2E3482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바탕"/>
              </a:rPr>
              <a:t>Työ,ja t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6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64320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2A1F-50A4-487E-AE5B-F98883E0D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/>
          </p:nvPr>
        </p:nvSpPr>
        <p:spPr>
          <a:xfrm>
            <a:off x="2133720" y="2057040"/>
            <a:ext cx="6248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leksi ja Teemu nostavat painoja. Aleksi nostaa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  30 kg painon päänsä yläpuolelle (noin  0,60 m) 10 kertaa 15 sekunnissa.  Teemu nostaa  50 kg saman verran päänsä yläpuolelle 10 kertaa  puolessa minuutis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Kumpi tekee enemmän työtä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Kumman teho on suuremp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7" name="Picture 8" descr="MCj03328720000[1]"/>
          <p:cNvPicPr/>
          <p:nvPr/>
        </p:nvPicPr>
        <p:blipFill>
          <a:blip r:embed="rId1"/>
          <a:stretch/>
        </p:blipFill>
        <p:spPr>
          <a:xfrm>
            <a:off x="0" y="2057400"/>
            <a:ext cx="2460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5B65-9295-46E7-803B-32EB9C92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Mikä on työtä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ysiikassa työ tarkoittaa eri asiaa kuin arkikieless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ysiikassa työ tarkoittaa sitä, että käytetään voimaa liikuttamaan kappaletta ja voima ja liike tapahtuvat samaan suun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Dian numeron paikkamerkki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BA44-0B87-4DCF-BB5E-23605E0A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Työtä vai e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Onko siis työtä k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Opettaja pitää tunt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Hiiri työntää nokallaan pientä juustopalaa lattian poik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5" name="Picture 4" descr="j0346643"/>
          <p:cNvPicPr/>
          <p:nvPr/>
        </p:nvPicPr>
        <p:blipFill>
          <a:blip r:embed="rId1"/>
          <a:stretch/>
        </p:blipFill>
        <p:spPr>
          <a:xfrm>
            <a:off x="5257800" y="1676520"/>
            <a:ext cx="3046320" cy="38462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6" descr="j0345794"/>
          <p:cNvPicPr/>
          <p:nvPr/>
        </p:nvPicPr>
        <p:blipFill>
          <a:blip r:embed="rId2"/>
          <a:stretch/>
        </p:blipFill>
        <p:spPr>
          <a:xfrm>
            <a:off x="2438280" y="5486400"/>
            <a:ext cx="933480" cy="62856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8" descr="untitled"/>
          <p:cNvPicPr/>
          <p:nvPr/>
        </p:nvPicPr>
        <p:blipFill>
          <a:blip r:embed="rId3"/>
          <a:stretch/>
        </p:blipFill>
        <p:spPr>
          <a:xfrm>
            <a:off x="2666880" y="4572000"/>
            <a:ext cx="152424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Dian numeron paikkamerkki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C5A0-AAF4-4AA2-8270-6E2C02E7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8" descr="untitled"/>
          <p:cNvPicPr/>
          <p:nvPr/>
        </p:nvPicPr>
        <p:blipFill>
          <a:blip r:embed="rId1"/>
          <a:stretch/>
        </p:blipFill>
        <p:spPr>
          <a:xfrm>
            <a:off x="1828800" y="1295280"/>
            <a:ext cx="1523880" cy="819360"/>
          </a:xfrm>
          <a:prstGeom prst="rect">
            <a:avLst/>
          </a:prstGeom>
          <a:ln w="0">
            <a:noFill/>
          </a:ln>
        </p:spPr>
      </p:pic>
      <p:sp>
        <p:nvSpPr>
          <p:cNvPr id="1610" name="Tekstikehys 3"/>
          <p:cNvSpPr/>
          <p:nvPr/>
        </p:nvSpPr>
        <p:spPr>
          <a:xfrm>
            <a:off x="348480" y="2590920"/>
            <a:ext cx="74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iiri työntää juustopalaa, ja käyttää voimaa kappa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kuttam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kstikehys 4"/>
          <p:cNvSpPr/>
          <p:nvPr/>
        </p:nvSpPr>
        <p:spPr>
          <a:xfrm>
            <a:off x="407160" y="35812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 tekee työtä kitkavoimaa vas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kstikehys 5"/>
          <p:cNvSpPr/>
          <p:nvPr/>
        </p:nvSpPr>
        <p:spPr>
          <a:xfrm>
            <a:off x="261000" y="487692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pettaja ei tee fysiikan merkityksessä työtä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10E-E4F4-4BDD-A73F-BDCFD0107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Mikä on siis työtä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624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atti Vanhanen pitää puheen YK:n juhlistunnos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Vedät leukaa liikuntatunn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Pidät 20 kg:n painoja sylissä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Äiti kantaa lasta sylissä huoneesta tois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Isä työntää lastenvaunuja</a:t>
            </a: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Opettelet ruotsin sano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Kannat koulurepun  selässäsi kouluu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9E64-ECE8-4195-A22F-B940BB6C1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Työ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ö = voi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바탕"/>
              </a:rPr>
              <a:t>mat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man yksikkö on new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kan yksikkö on m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n yksikkö onJoule = new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metri,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ksi 1  Nm = 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kstikehys 4"/>
          <p:cNvSpPr/>
          <p:nvPr/>
        </p:nvSpPr>
        <p:spPr>
          <a:xfrm>
            <a:off x="2294640" y="251460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 = F </a:t>
            </a:r>
            <a:r>
              <a:rPr b="0" lang="fi-F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Dian numeron paikkamerkki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EDB-5E0E-43EF-BE0C-5968D00D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W=F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Mies työntää laatikk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10 metrin matkan 20N:n voima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Laske ty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4" descr="MMj03546620000[1]"/>
          <p:cNvPicPr/>
          <p:nvPr/>
        </p:nvPicPr>
        <p:blipFill>
          <a:blip r:embed="rId1"/>
          <a:stretch/>
        </p:blipFill>
        <p:spPr>
          <a:xfrm>
            <a:off x="5791320" y="1295280"/>
            <a:ext cx="2652480" cy="2652840"/>
          </a:xfrm>
          <a:prstGeom prst="rect">
            <a:avLst/>
          </a:prstGeom>
          <a:ln w="0">
            <a:noFill/>
          </a:ln>
        </p:spPr>
      </p:pic>
      <p:sp>
        <p:nvSpPr>
          <p:cNvPr id="1624" name="Suorakulmio 5"/>
          <p:cNvSpPr/>
          <p:nvPr/>
        </p:nvSpPr>
        <p:spPr>
          <a:xfrm>
            <a:off x="1752480" y="4724280"/>
            <a:ext cx="457200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W = F </a:t>
            </a: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Times New Roman"/>
              </a:rPr>
              <a:t>∙</a:t>
            </a: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W  = 20N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  <a:ea typeface="Times New Roman"/>
              </a:rPr>
              <a:t>∙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10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=  2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바탕"/>
              </a:rPr>
              <a:t>=   200   J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Nostoty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Dian numeron paikkamerkki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66E4-B425-4B10-93E7-54961E3F0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kstikehys 3"/>
          <p:cNvSpPr/>
          <p:nvPr/>
        </p:nvSpPr>
        <p:spPr>
          <a:xfrm>
            <a:off x="1075680" y="2209680"/>
            <a:ext cx="62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n nostat kappaletta , teet työtä painovoiman voittamis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kstikehys 4"/>
          <p:cNvSpPr/>
          <p:nvPr/>
        </p:nvSpPr>
        <p:spPr>
          <a:xfrm>
            <a:off x="1074240" y="312408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W = G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kstikehys 6"/>
          <p:cNvSpPr/>
          <p:nvPr/>
        </p:nvSpPr>
        <p:spPr>
          <a:xfrm>
            <a:off x="1225800" y="40384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G = pa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kstikehys 7"/>
          <p:cNvSpPr/>
          <p:nvPr/>
        </p:nvSpPr>
        <p:spPr>
          <a:xfrm>
            <a:off x="1306440" y="46483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 = nostokork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Picture 2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51452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Dian numeron paikkamerkki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12B-D6F9-4E94-B51E-0D8DF7EC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바탕"/>
              </a:rPr>
              <a:t>Teho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ittaa sitä, miten nopeasti työ tehdää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eho = työ:a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00"/>
                </a:solidFill>
                <a:latin typeface="바탕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Tehon yksikö on watti, 1 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02:17:16Z</dcterms:created>
  <dc:creator/>
  <dc:description/>
  <dc:language>en-US</dc:language>
  <cp:lastModifiedBy>Ritva Tamminen</cp:lastModifiedBy>
  <dcterms:modified xsi:type="dcterms:W3CDTF">2009-10-03T17:52:22Z</dcterms:modified>
  <cp:revision>36</cp:revision>
  <dc:subject/>
  <dc:title>Työ, teho ja yksinkertaiset koneet</dc:title>
</cp:coreProperties>
</file>